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DE8-65DD-4EA7-8188-0B1DD2B6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378-4E4E-4893-94EC-C3F6B123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C4D-288F-4417-8403-12B42885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311-A6C6-4A6A-A2A2-03AAE2BD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F459-8D21-4658-AEFB-B6972127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A642-F12F-4FE4-83C4-28C8E7B2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F556-7A21-464B-9E84-FD3B6C46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163A-CC45-4B33-AB8B-E301459C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CB4A-83D6-4F8B-939D-3EB9545A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346B-CAA9-470D-AC0E-FAE0853B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6767-C731-4FD6-83BD-540767D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C98-3DFF-4D59-B681-76D9C064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D377-3419-4CAF-A886-32183F3F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E890-C4E8-4A85-BD8C-58FB1626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62EA-342E-4C1A-A04A-7FB45FC6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F1A5-FCC8-426E-B7F0-FE314E04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BDB1-9487-4DD4-A87C-F713BD4D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6866-9D49-4D0A-9995-98691D4E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4AE3-0A46-4AEB-B092-3959716B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F0B4C-9017-4387-A3D1-D1D7DEC0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9C6E-11B1-43DE-AE31-5D7590AF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55A1-716F-44ED-AA66-1C876398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E39-F994-4553-9A23-B271ABB9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C6B5-8C16-4665-9314-9B8ED1FE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0A22-F6ED-47E5-911E-2D839AC2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5BA52-48F8-48E0-B93D-D8A5B722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E1BF-D813-4C7F-8603-F06583C3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636A-2AA5-4AA3-A07C-AFA1B610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70F9-EE86-4E7B-9455-C0675E96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5E64B-E267-4BFA-8E22-410A83C4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600C-3EC7-4601-9181-FBD8EF1F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7B22-6BB5-4DDC-8054-30E4E986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5D1CC-8E8F-4EF3-BE62-110CB471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48B-057F-416D-AD03-4DF5D944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91A3C-73CB-43CE-B082-F79FD39D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59A0D-1C41-4A5C-A505-93BF4AAC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27D2-4949-43BB-B83C-9C4CA7C3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C9218-70DA-4688-894D-8F88C0DD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A4F09-E38D-4E07-B7F8-E863521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8D2D-C07F-4FA9-AF8D-47BF5EDF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890F-8513-4BCF-AA18-2D71FE79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48D66-AEE7-495D-B359-E74683BE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EAFE6-1B30-4CF7-9400-64D65622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6A5-19B9-4115-9FFC-8688CF48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CA7-5698-4478-ADC3-1A65A0A6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FEF-5C54-40AA-A32C-52EBBFEE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5AC-2097-4D24-BEE9-8468EC8A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8FA-4ECE-4966-9251-2285B4D8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CD14-02FF-4915-B577-57E08C30A519}" type="slidenum">
              <a:rPr b="0" lang="es-C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2592-2A4C-4B3E-B0AE-36A0F1C9CF26}" type="slidenum">
              <a:rPr b="0" lang="es-C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B899-F29F-4F70-B6B3-275C5CC1BA76}" type="slidenum">
              <a:rPr b="0" lang="es-C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91EB-14A9-4B93-B740-9D95E5276627}" type="slidenum">
              <a:rPr b="0" lang="es-C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213840" y="466200"/>
            <a:ext cx="7929720" cy="1319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Constantia"/>
              </a:rPr>
              <a:t>FATLA </a:t>
            </a:r>
            <a:br>
              <a:rPr sz="1800"/>
            </a:br>
            <a:r>
              <a:rPr b="0" i="1" lang="es-CR" sz="1800" spc="-1" strike="noStrike">
                <a:solidFill>
                  <a:srgbClr val="ffffff"/>
                </a:solidFill>
                <a:latin typeface="Constantia"/>
              </a:rPr>
              <a:t>Fundación para la Actualización Tecnológica de Latinoamérica</a:t>
            </a:r>
            <a:br>
              <a:rPr sz="1800"/>
            </a:br>
            <a:r>
              <a:rPr b="0" i="1" lang="es-CR" sz="1800" spc="-1" strike="noStrike">
                <a:solidFill>
                  <a:srgbClr val="ffffff"/>
                </a:solidFill>
                <a:latin typeface="Constantia"/>
              </a:rPr>
              <a:t>Programa de Experto en Procesos Elearning</a:t>
            </a:r>
            <a:br>
              <a:rPr sz="1800"/>
            </a:br>
            <a:r>
              <a:rPr b="0" i="1" lang="es-CR" sz="1800" spc="-1" strike="noStrike">
                <a:solidFill>
                  <a:srgbClr val="ffffff"/>
                </a:solidFill>
                <a:latin typeface="Constantia"/>
              </a:rPr>
              <a:t>Módulo 5 - Metodología PACIE - Capacitación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4 CuadroTexto"/>
          <p:cNvSpPr/>
          <p:nvPr/>
        </p:nvSpPr>
        <p:spPr>
          <a:xfrm>
            <a:off x="0" y="1785960"/>
            <a:ext cx="91440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CURSOS WEB 2.0: OPORTUNIDAD DE CAPACITAR EN EL USO DE LAS HERRAMIENTAS TECNOLÓGICAS A LOS DOCENTES DE LA UCLA, PARA SER IMPLEMENTADO EN EL                PROCESO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CITIC: CREATIVIDAD E INNOVACIÓN EN EL USO DE LAS 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Coordinad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Nancy Gómez - Venezuela</a:t>
            </a:r>
            <a:br>
              <a:rPr sz="1600"/>
            </a:br>
            <a:br>
              <a:rPr sz="1600"/>
            </a:br>
            <a:r>
              <a:rPr b="1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Integrantes del grupo</a:t>
            </a:r>
            <a:br>
              <a:rPr sz="1600"/>
            </a:br>
            <a:r>
              <a:rPr b="0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María Mercedes Cambil- Venezuela</a:t>
            </a:r>
            <a:br>
              <a:rPr sz="1600"/>
            </a:br>
            <a:r>
              <a:rPr b="0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Mercy María Cedeño- Ecuador</a:t>
            </a:r>
            <a:br>
              <a:rPr sz="1600"/>
            </a:br>
            <a:r>
              <a:rPr b="0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Maribel Viales - Costa Rica</a:t>
            </a:r>
            <a:br>
              <a:rPr sz="1600"/>
            </a:br>
            <a:r>
              <a:rPr b="1" lang="es-CR" sz="1600" spc="-1" strike="noStrike">
                <a:solidFill>
                  <a:srgbClr val="000000"/>
                </a:solidFill>
                <a:latin typeface="Andalus"/>
                <a:ea typeface="Andalus"/>
              </a:rPr>
              <a:t>Enero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Diapositiva1"/>
          <p:cNvPicPr/>
          <p:nvPr/>
        </p:nvPicPr>
        <p:blipFill>
          <a:blip r:embed="rId1"/>
          <a:stretch/>
        </p:blipFill>
        <p:spPr>
          <a:xfrm>
            <a:off x="3786120" y="2986200"/>
            <a:ext cx="1743120" cy="1269720"/>
          </a:xfrm>
          <a:prstGeom prst="rect">
            <a:avLst/>
          </a:prstGeom>
          <a:ln w="0">
            <a:noFill/>
          </a:ln>
        </p:spPr>
      </p:pic>
      <p:pic>
        <p:nvPicPr>
          <p:cNvPr id="198" name="1 Imagen" descr="logofatla.jpg"/>
          <p:cNvPicPr/>
          <p:nvPr/>
        </p:nvPicPr>
        <p:blipFill>
          <a:blip r:embed="rId2"/>
          <a:stretch/>
        </p:blipFill>
        <p:spPr>
          <a:xfrm>
            <a:off x="142920" y="160200"/>
            <a:ext cx="2928960" cy="608040"/>
          </a:xfrm>
          <a:prstGeom prst="rect">
            <a:avLst/>
          </a:prstGeom>
          <a:ln w="0">
            <a:noFill/>
          </a:ln>
        </p:spPr>
      </p:pic>
      <p:pic>
        <p:nvPicPr>
          <p:cNvPr id="199" name="2 Imagen" descr="expertoelearning.png"/>
          <p:cNvPicPr/>
          <p:nvPr/>
        </p:nvPicPr>
        <p:blipFill>
          <a:blip r:embed="rId3"/>
          <a:stretch/>
        </p:blipFill>
        <p:spPr>
          <a:xfrm>
            <a:off x="8012160" y="160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0080" y="791640"/>
            <a:ext cx="6292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Constantia"/>
              </a:rPr>
              <a:t>7. Evaluación del curso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28760" y="1714680"/>
          <a:ext cx="8072280" cy="393696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oductos Esper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alor Porcen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emana de 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tualización del perf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mer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ticipaciones en foro-discu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urante todas las sema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ticipaciones en foro-ta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rta y Quinta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bajo y participación en la Wi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rta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bajo grupal sobre planeamiento y uso de Google do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uinta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seño de la guía de observación con el respectivo vi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xta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valuación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000000"/>
                </a:solidFill>
                <a:latin typeface="Calibri"/>
              </a:rPr>
              <a:t>Tabla de contenidos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85880" y="1785600"/>
            <a:ext cx="721512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1. Descripción general del cur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2. Objetivo gener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3. Objetivos específic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4. Metodología del curs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5. Recurs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6. Cronograma del curs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7. Evaluación del curs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3 Imagen" descr="ordenando_libros_med.jpg"/>
          <p:cNvPicPr/>
          <p:nvPr/>
        </p:nvPicPr>
        <p:blipFill>
          <a:blip r:embed="rId1"/>
          <a:stretch/>
        </p:blipFill>
        <p:spPr>
          <a:xfrm>
            <a:off x="6215040" y="928800"/>
            <a:ext cx="24433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6760" y="2857680"/>
            <a:ext cx="8215560" cy="52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500" spc="-1" strike="noStrike">
                <a:solidFill>
                  <a:srgbClr val="04617b"/>
                </a:solidFill>
                <a:latin typeface="Calibri"/>
              </a:rPr>
              <a:t>Propuesta de capacitación en línea  a los docentes de la UCLA</a:t>
            </a:r>
            <a:br>
              <a:rPr sz="4500"/>
            </a:br>
            <a:r>
              <a:rPr b="0" lang="es-CR" sz="3600" spc="-1" strike="noStrike">
                <a:solidFill>
                  <a:srgbClr val="04617b"/>
                </a:solidFill>
                <a:latin typeface="Calibri"/>
              </a:rPr>
              <a:t>LA GENERACIÓN DIGITAL UN DESAFÍO EDUCATIVO.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00040" y="2857680"/>
            <a:ext cx="807264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onstantia"/>
              </a:rPr>
              <a:t>1. Descripción general del curso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onstantia"/>
              </a:rPr>
              <a:t>El curso es una experiencia de aprendizaje en línea que permitirá a los educadores de cualquier ámbito realizar un análisis de las cambios tecnológicos que estamos enfrentando en la educación y como debemos de ajustar nuestras metodologías a la tecnología existente, para que de esta forma la educación está cada vez más alineada a las estructuras de pensamiento y aprendizaje de nuestros llamados Nativos digitales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onstantia"/>
              </a:rPr>
              <a:t>Está dirigido a una población meta de al menos 10 educadores, que cuentan con computadora en el aula; esto debido a que las oportunidad de contar con un recursos computación hoy en día es cada vez más factible y se necesita orientar el trabajo de los docentes para que se maximice su uso y de esta forma la educación sea cada día más dinámica dentro de estas instituciones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onstantia"/>
              </a:rPr>
              <a:t>El curso está planificado para 6 semanas de duración, con un total de 40 horas de trabajo que comprenderá el espacio para lecturas, búsqueda de recursos en línea, producción de guías de observación , planeamiento de lecciones y redes sociales de intercambio de Documentos en línea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714240" y="1356840"/>
            <a:ext cx="7715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Se conforma de los siguientes espacios: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onstantia"/>
              </a:rPr>
              <a:t>Foro de discusión</a:t>
            </a: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1700" spc="-1" strike="noStrike">
                <a:solidFill>
                  <a:srgbClr val="000000"/>
                </a:solidFill>
                <a:latin typeface="Constantia"/>
              </a:rPr>
              <a:t>temática:</a:t>
            </a: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 donde se presentarán lectura sobre relacionadas con el contenido del curso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onstantia"/>
              </a:rPr>
              <a:t>Foro taller:</a:t>
            </a: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 este espacio involucra la interacción de los participantes, busca dar respuesta a las dudas e interrogantes que se le presenten a los participante; se espera motivar las redes de ayuda relacionadas con las diversas actividades que propone el curso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1700" spc="-1" strike="noStrike">
                <a:solidFill>
                  <a:srgbClr val="000000"/>
                </a:solidFill>
                <a:latin typeface="Constantia"/>
              </a:rPr>
              <a:t>Uso del Google Docs y Wikis:</a:t>
            </a: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 Para el intercambio virtual de materiale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onstantia"/>
              </a:rPr>
              <a:t>Foro de socialización:</a:t>
            </a: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 Espacio Virtual de recreación en el que los participantes podrán interactuar entre ellos y conocer mejor los gustos y características de sus compañeros.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2.Objetivo General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onstantia"/>
              </a:rPr>
              <a:t>Propiciar espacios de análisis y reflexión sobre el uso de las tecnologías digitales en la educación y su impacto en los estudiante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13880" y="1071360"/>
            <a:ext cx="785844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nstantia"/>
              </a:rPr>
              <a:t>3. Objetivos Específicos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Conocer las características de aprendizaje de nuestros llamados nativos digitales y adaptar nuestras aulas y metodologías a su forma de asimilar inform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Recopilar estrategias de trabajo y software de apoyo para el trabajo con los estudiantes, utilizando para ellos las TICs en educ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nstantia"/>
              </a:rPr>
              <a:t>4. Metodología del curso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El curso se compone de 6 bloques de trabajo donde se estima el uso de herramientas en línea y herramientas de trabajo facilitadas por los mismos participante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Se hace uso del Foro-Taller donde los participantes mediante consignas hacen sus aportes documentales e instrumentales sobre los diversos tópicos que se abordan en el curs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El utiliza además un Foro de discusión en el cual se debatirán temas relacionados a los contenidos del curso y que demandarán en el participante la búsqueda de conclusiones concretas sobre los aportes de todos los compañeros del curso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El uso de un foro de socialización llamado: “Espacio de Recreación Virtual” donde los participantes comentarán o discutirán sobre diversos temas de interés (música, expectativas, chistes, adivinanzas etc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El uso de herramientas en línea como El Google Docs, Wikis, para poder compartir materiales entre los compañeros, ampliando así los conocimientos sobre la temática y aumentando destrezas en el uso de las tecnologías para el aprendizaje y educación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428480"/>
            <a:ext cx="807228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4.1 Población meta: Profesores de la UCL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4.2 Cantidad de participantes: _______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4.3 Cantidad de semanas: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4.4 Cantidad de horas: 40 hora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Constantia"/>
              </a:rPr>
              <a:t>5. Recurs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Moodle: Aula virtual (Foro dudas, foro discusión, foro espacio social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chats, encuesta, wiki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Herramienta web 2.0: Blo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Computador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R" sz="1600" spc="-1" strike="noStrike">
                <a:solidFill>
                  <a:srgbClr val="000000"/>
                </a:solidFill>
                <a:latin typeface="Constantia"/>
              </a:rPr>
              <a:t>Offi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5 CuadroTexto"/>
          <p:cNvSpPr/>
          <p:nvPr/>
        </p:nvSpPr>
        <p:spPr>
          <a:xfrm>
            <a:off x="571680" y="714240"/>
            <a:ext cx="67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Constantia"/>
              </a:rPr>
              <a:t>6. Cronograma del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00040" y="1397160"/>
          <a:ext cx="8215200" cy="440352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bordaje concep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oros y discus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erramientas a utiliz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dades obligato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l aula Virtual, ubicación, navegabilidad y Sec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zando Mi Perf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ociendo a Mis compañ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Presentación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Presentación de la institución e intercambios con compañeros de curs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de socialización: “Presentación y expectativas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84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tivos digitales Vrs modelos de aprendiz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ctura: Nativos digitales y modelos de aprendiz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s grupales de discusión en relación a la lectur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acio de Recreación Vir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428760"/>
          <a:ext cx="8215200" cy="621828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bordaje concep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oros y discus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erramientas a utiliz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dades obligato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67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rramientas digitales y su aplicación a la educ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través de un foro general los participantes buscan y comentan diferentes herramientas digitales aplicables a la Educ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general de discusión relacionado con las herramientas encont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acio de Recreación Vir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de socialización opt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579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ágina Youtube como biblioteca multimedia de la escuel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ctura del manual de cómo bajar y subir vide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area: Los participantes diseñan una guía de observación para un video determinado y lo comparten en la Wiki  junto con el link del vide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 sub grupos se valora e enriquece la guía de observación de algún estudia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taller: sobre aspectos relacionados con el trabaj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Taller de dudas Genera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iki sobre guías de observ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acio de Recreación Vir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de socialización opt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500040" y="428760"/>
          <a:ext cx="8215200" cy="609912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bordaje concep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oros y discus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erramientas a utiliz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dades obligato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33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 herramienta de Google Docs para el desarrollo de redes de intercambio virtua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ctura ppt del manual de Google Doc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bajo en subgrupos, los cuales realizaran un Planeamiento en línea el cual involucre el uso de herramientas digitales, el cual enviaran a través de Google Docs al profeso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taller: sobre aspectos relacionados con el trabaj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Taller de dudas Genera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: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acio de Recreación Virt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de socialización opta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2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o maximizar el uso las herramientas de la Web 2 en los nativos digitales. (la educación frente a estos requerimient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stival de citas bibliográfica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os los participantes realizaran una búsqueda bibliográfica relacionada con la Educación vrs nativos digita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otaran citas textuales del documento encontrado con su respectiva bibliografía y darán aportes a las de sus compañer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de intercambio de citas textuales y bibliograf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: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acio de Recreación Virt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o de socialización opta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4:29:15Z</dcterms:created>
  <dc:creator>Maribel.Viales</dc:creator>
  <dc:description/>
  <dc:language>en-US</dc:language>
  <cp:lastModifiedBy>maria mercedes</cp:lastModifiedBy>
  <dcterms:modified xsi:type="dcterms:W3CDTF">2010-01-23T03:02:21Z</dcterms:modified>
  <cp:revision>26</cp:revision>
  <dc:subject/>
  <dc:title>Diapositiva 1</dc:title>
</cp:coreProperties>
</file>